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95E-7D7C-4799-8F28-E4718C61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FED-D3B1-4DD4-B2AD-9C5DDC8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5E2-DA34-4CA3-A4DA-0614FA4E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B98-A5FA-46CC-880B-609DF8C9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941-C33F-43FC-BC76-DE57336B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F134-742E-48A1-990A-C762334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AB9-ACFB-435E-8660-3E3D786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2C2D-FC51-4026-889D-A05FC10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EB9-C806-4806-909C-46D0887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2A4-0465-4FA9-94C8-DA5008E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054-5C35-4D77-B05E-CEA1FDE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3A2-0B4D-4D42-AACD-53D62E19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F681-A862-4EA7-BEB7-E4C4261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8F7B-B2AF-4305-92C5-5BB8A6AE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F4D5-534E-413B-8094-74A554C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9A0-778C-4CCD-8DA5-A6C493E8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CF3A-00A4-401B-910F-F02D457E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179-A0B2-454B-8212-06FEEB9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640-36AA-4A68-AB3F-98581CB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85D-A431-4F10-9313-04F2206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334-0A35-49BE-916C-C5A2E97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D52-39DE-437A-A380-0925E38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E0E-061A-44CA-9612-F9F4254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F6E-371A-4D44-8D3E-DD6AEC9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7AA-0DE0-4044-9037-0C1584B0BEA2}" type="slidenum">
              <a:rPr b="1" lang="en-US" sz="20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pic>
        <p:nvPicPr>
          <p:cNvPr id="6" name="Picture 8" descr="33399394"/>
          <p:cNvPicPr/>
          <p:nvPr/>
        </p:nvPicPr>
        <p:blipFill>
          <a:blip r:embed="rId2"/>
          <a:stretch/>
        </p:blipFill>
        <p:spPr>
          <a:xfrm>
            <a:off x="6781680" y="3886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33399394"/>
          <p:cNvPicPr/>
          <p:nvPr/>
        </p:nvPicPr>
        <p:blipFill>
          <a:blip r:embed="rId2"/>
          <a:stretch/>
        </p:blipFill>
        <p:spPr>
          <a:xfrm>
            <a:off x="0" y="17524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1" marL="639000" indent="-24552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2" marL="982800" indent="-196560"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3" marL="1375920" indent="-196560">
              <a:spcBef>
                <a:spcPts val="1001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4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5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  <a:p>
            <a:pPr lvl="6" marL="1769040" indent="-196560">
              <a:spcBef>
                <a:spcPts val="10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nd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3C51-FCA6-4D55-A5D5-038390CA4204}" type="slidenum">
              <a:rPr b="0" lang="en-US" sz="2400" spc="-1" strike="noStrike">
                <a:solidFill>
                  <a:srgbClr val="ffffff"/>
                </a:solidFill>
                <a:latin typeface="And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Britannic Bold"/>
              </a:rPr>
              <a:t>Blending the Right Blended </a:t>
            </a:r>
            <a:br>
              <a:rPr sz="5000"/>
            </a:br>
            <a:r>
              <a:rPr b="1" lang="en-US" sz="5000" spc="-1" strike="noStrike">
                <a:solidFill>
                  <a:srgbClr val="000099"/>
                </a:solidFill>
                <a:latin typeface="Britannic Bold"/>
              </a:rPr>
              <a:t>E-learning</a:t>
            </a:r>
            <a:endParaRPr b="0" lang="en-US" sz="5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9000" y="297144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y"/>
              </a:rPr>
              <a:t>Marmon A. Pagunsan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Training Programme Specialist 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Southeast Asian Ministers of Education Organisation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Regional Centre for Education in Science and Mathematics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dy"/>
              </a:rPr>
              <a:t>Penang, Malaysia</a:t>
            </a:r>
            <a:endParaRPr b="0" lang="en-US" sz="15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086600" y="5867280"/>
            <a:ext cx="1800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t merges aspects of e-learning such as: web-based instruction, streaming video, audio, synchronous and asynchronous communication, etc; with traditional “face-to-face” learning                 (Al-Hunaiyyan, Al-Huwail &amp;           Al-Sharhan, 2007).</a:t>
            </a:r>
            <a:endParaRPr b="0" lang="en-US" sz="30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What had been learned?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wo kinds of learners: active and passive online learners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ything new or noble does not necessarily appeal to all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provided an avenue for learners &amp; teachers to optimize teaching and learning process.  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least and the last had an avenue to contribute  in the teaching-learning process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f prime importance for the teacher to                    know the right blend with the face-to-face                 learning and online learning.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ast Asian Ministers of Education Organisation Regional Centre for Education in Science and Mathematic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MEO RECS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unei Darrusalam, Cambodia, Indonesia, Lao PDR, Malaysia, Myanmar, Philippines, Singapore, Thailand, Timor Leste, Vietnam;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 Memb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, Canada, France, Germany, Netherlands, New Zealand, Norway, Spain 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reputable educational institution                   committed to promoting science and                     mathematics education in Southeast Asia                and beyond. 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Promise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35% Reduced Cost</a:t>
            </a:r>
            <a:endParaRPr b="0" lang="en-US" sz="33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457200" y="2898720"/>
            <a:ext cx="3962520" cy="280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4419720" y="1066680"/>
            <a:ext cx="3971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dy"/>
              </a:rPr>
              <a:t>Blended E-learning Challenges </a:t>
            </a:r>
            <a:endParaRPr b="0" lang="en-US" sz="4000" spc="-1" strike="noStrike">
              <a:solidFill>
                <a:srgbClr val="0099cc"/>
              </a:solidFill>
              <a:latin typeface="Andy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nformation and communication technology infrastructure availability in underdeveloped countries (e. g. Cambodia, Lao PDR, Myanmar, Timor Leste, etc.)</a:t>
            </a:r>
            <a:endParaRPr b="0" lang="en-US" sz="23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18000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marmon\Desktop\PICS &amp; VIDEO [TOTO]\100CASIO\CIMG0697.JPG"/>
          <p:cNvPicPr/>
          <p:nvPr/>
        </p:nvPicPr>
        <p:blipFill>
          <a:blip r:embed="rId3"/>
          <a:stretch/>
        </p:blipFill>
        <p:spPr>
          <a:xfrm>
            <a:off x="533520" y="1143000"/>
            <a:ext cx="3990960" cy="2992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533520" y="4191120"/>
            <a:ext cx="662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ormation and communication technologically challenged teacher participa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glish language barrier for non-English speaking countrie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3657600"/>
            <a:ext cx="891540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mon A. Pagunsan &lt;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rmonpagunsan@yahoo.com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ning Programme Speciali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theast Asian Ministers of Education Organi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 Centre for Education in Science and Mathemat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AMEO RECSAM, Jalan Sultan Azlan Sha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700 Gelugor, Penang, Malays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2895480" y="228600"/>
            <a:ext cx="58676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Georgia"/>
              </a:rPr>
              <a:t>Maraming Salamat po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4248000" cy="524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52280" y="647712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th - 17th October 2009 – BAH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7162920" y="5867280"/>
            <a:ext cx="180000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3:23:53Z</dcterms:created>
  <dc:creator>DORIS NUVAL</dc:creator>
  <dc:description/>
  <dc:language>en-US</dc:language>
  <cp:lastModifiedBy>marmon</cp:lastModifiedBy>
  <dcterms:modified xsi:type="dcterms:W3CDTF">2009-10-15T14:59:27Z</dcterms:modified>
  <cp:revision>54</cp:revision>
  <dc:subject/>
  <dc:title>Workshop on TV Assisted Instruction</dc:title>
</cp:coreProperties>
</file>